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BE00-BD02-4FFE-8736-906481C8A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E856-90FA-4223-ADBC-5D71DDE2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0069-54DA-49BB-946D-003EF6FA4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F81A-333C-4B10-A532-3DC76751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96D2-5E39-4AFD-BACD-714EFAFF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F9DC-288C-473D-9E6B-6ABFA2A3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9C25-8549-48CC-9058-2E7B7B21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1AFC-E478-4345-97FA-5A3D74DB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4B7F-D37C-41FA-9BCE-C7901581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4FC9-6FFD-420F-9A53-9F7CE2B4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3065-A0D2-4B43-B7D1-C8DA4497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7F6B-C1C9-495C-BE71-94F4165E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F01D-B052-4D97-96A5-87B6F7DA8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Eurovis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vision is a popular song competition held once a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watched by over 125 million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how started in 19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 said to have started for cultural unity, but was actually started to test the new television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 countries participate in euro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Eurovision: the great voting conspiracy"/>
          <p:cNvPicPr/>
          <p:nvPr/>
        </p:nvPicPr>
        <p:blipFill>
          <a:blip r:embed="rId1"/>
          <a:stretch/>
        </p:blipFill>
        <p:spPr>
          <a:xfrm>
            <a:off x="1676520" y="2209680"/>
            <a:ext cx="577188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ting and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 have judges that score each song, and cannot score their own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ople can also vote for their favorite so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formers have to perform a song that has never been rele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formers often dress in crazy outfits to get attention, which will get them more v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times the songs are performed in English, but national identity is still mainta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azy out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5715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2:44:35Z</dcterms:created>
  <dc:creator>SCSadmin</dc:creator>
  <dc:description/>
  <dc:language>en-US</dc:language>
  <cp:lastModifiedBy>SCSadmin</cp:lastModifiedBy>
  <dcterms:modified xsi:type="dcterms:W3CDTF">2012-08-22T13:10:26Z</dcterms:modified>
  <cp:revision>2</cp:revision>
  <dc:subject/>
  <dc:title>Slide 1</dc:title>
</cp:coreProperties>
</file>